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88CC-6ACF-4E78-B441-8D6408B0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C3AE-3619-4224-9A88-43265DCA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C8D3-7F5C-4026-B1F4-BECEB4D6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A75-2F67-4FF3-810F-BAB15081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681-EDCE-42C8-A7C4-36E9FB7F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F35-AEE1-41DE-BF6D-A1267DD0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9BE-2C97-4379-A052-9811ABF8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852-BEA1-4FBC-BA14-C99BFBA5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341-9881-468E-93BF-25AA8D31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CF2E-756A-4D05-AA4A-47F81A2D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B8D-3A15-4320-A9A4-D09166AD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E57-064F-4F41-9045-FA0C37DB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0D64-7299-465A-B4CA-8E0B695947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6002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E VOLA UN ELICOTTERO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09480" y="3886200"/>
            <a:ext cx="8229600" cy="2242440"/>
            <a:chOff x="609480" y="3886200"/>
            <a:chExt cx="8229600" cy="2242440"/>
          </a:xfrm>
        </p:grpSpPr>
        <p:sp>
          <p:nvSpPr>
            <p:cNvPr id="43" name=""/>
            <p:cNvSpPr/>
            <p:nvPr/>
          </p:nvSpPr>
          <p:spPr>
            <a:xfrm>
              <a:off x="685800" y="3886200"/>
              <a:ext cx="815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ene, grazie,        (dice lu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5181480"/>
              <a:ext cx="8001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Ma noi siamo curiosi e vediamo di scoprire qualcosa di pi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533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INUA RISOLUZIONE 4°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22096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600" y="2035080"/>
            <a:ext cx="8686800" cy="4008600"/>
            <a:chOff x="228600" y="2035080"/>
            <a:chExt cx="8686800" cy="4008600"/>
          </a:xfrm>
        </p:grpSpPr>
        <p:pic>
          <p:nvPicPr>
            <p:cNvPr id="127" name="trasm03" descr=""/>
            <p:cNvPicPr/>
            <p:nvPr/>
          </p:nvPicPr>
          <p:blipFill>
            <a:blip r:embed="rId1"/>
            <a:stretch/>
          </p:blipFill>
          <p:spPr>
            <a:xfrm>
              <a:off x="3352680" y="2035080"/>
              <a:ext cx="5562720" cy="400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28600" y="3352680"/>
              <a:ext cx="3048120" cy="21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b) Si inserisce una ruota libera tra il motore e la trasmiss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(come nella biciclett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600" y="3352680"/>
              <a:ext cx="3048120" cy="2133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6720" y="3962520"/>
              <a:ext cx="190476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81480" y="3886200"/>
              <a:ext cx="228600" cy="2286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4572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A QUESTO P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RISOLTI I PROBLEMI PIU’ IMPORT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L’ELICOTTERO E’ PILOTABILE  E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792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VOLA !!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129_A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743200" cy="1811520"/>
          </a:xfrm>
          <a:prstGeom prst="rect">
            <a:avLst/>
          </a:prstGeom>
          <a:ln w="0">
            <a:noFill/>
          </a:ln>
        </p:spPr>
      </p:pic>
      <p:pic>
        <p:nvPicPr>
          <p:cNvPr id="135" name="85-24343_Afghan_a" descr=""/>
          <p:cNvPicPr/>
          <p:nvPr/>
        </p:nvPicPr>
        <p:blipFill>
          <a:blip r:embed="rId2"/>
          <a:stretch/>
        </p:blipFill>
        <p:spPr>
          <a:xfrm>
            <a:off x="3124080" y="155520"/>
            <a:ext cx="2971800" cy="2352600"/>
          </a:xfrm>
          <a:prstGeom prst="rect">
            <a:avLst/>
          </a:prstGeom>
          <a:ln w="0">
            <a:noFill/>
          </a:ln>
        </p:spPr>
      </p:pic>
      <p:pic>
        <p:nvPicPr>
          <p:cNvPr id="136" name="970505-M-8731B-013" descr=""/>
          <p:cNvPicPr/>
          <p:nvPr/>
        </p:nvPicPr>
        <p:blipFill>
          <a:blip r:embed="rId3"/>
          <a:stretch/>
        </p:blipFill>
        <p:spPr>
          <a:xfrm>
            <a:off x="380880" y="2590920"/>
            <a:ext cx="3200400" cy="2125440"/>
          </a:xfrm>
          <a:prstGeom prst="rect">
            <a:avLst/>
          </a:prstGeom>
          <a:ln w="0">
            <a:noFill/>
          </a:ln>
        </p:spPr>
      </p:pic>
      <p:pic>
        <p:nvPicPr>
          <p:cNvPr id="137" name="CH_3" descr=""/>
          <p:cNvPicPr/>
          <p:nvPr/>
        </p:nvPicPr>
        <p:blipFill>
          <a:blip r:embed="rId4"/>
          <a:stretch/>
        </p:blipFill>
        <p:spPr>
          <a:xfrm>
            <a:off x="228600" y="4975200"/>
            <a:ext cx="3505320" cy="1601640"/>
          </a:xfrm>
          <a:prstGeom prst="rect">
            <a:avLst/>
          </a:prstGeom>
          <a:ln w="0">
            <a:noFill/>
          </a:ln>
        </p:spPr>
      </p:pic>
      <p:pic>
        <p:nvPicPr>
          <p:cNvPr id="138" name="EH7" descr=""/>
          <p:cNvPicPr/>
          <p:nvPr/>
        </p:nvPicPr>
        <p:blipFill>
          <a:blip r:embed="rId5"/>
          <a:stretch/>
        </p:blipFill>
        <p:spPr>
          <a:xfrm>
            <a:off x="6562800" y="304920"/>
            <a:ext cx="2392200" cy="3504960"/>
          </a:xfrm>
          <a:prstGeom prst="rect">
            <a:avLst/>
          </a:prstGeom>
          <a:ln w="0">
            <a:noFill/>
          </a:ln>
        </p:spPr>
      </p:pic>
      <p:pic>
        <p:nvPicPr>
          <p:cNvPr id="139" name="NEW10" descr=""/>
          <p:cNvPicPr/>
          <p:nvPr/>
        </p:nvPicPr>
        <p:blipFill>
          <a:blip r:embed="rId6"/>
          <a:stretch/>
        </p:blipFill>
        <p:spPr>
          <a:xfrm>
            <a:off x="3936960" y="2666880"/>
            <a:ext cx="23353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e fa a sollevarsi  un elicotter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762120"/>
            <a:ext cx="9144000" cy="5916600"/>
            <a:chOff x="0" y="762120"/>
            <a:chExt cx="9144000" cy="5916600"/>
          </a:xfrm>
        </p:grpSpPr>
        <p:sp>
          <p:nvSpPr>
            <p:cNvPr id="47" name=""/>
            <p:cNvSpPr/>
            <p:nvPr/>
          </p:nvSpPr>
          <p:spPr>
            <a:xfrm>
              <a:off x="0" y="76212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La portanza viene creata da delle ali che gira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1371600"/>
              <a:ext cx="9144000" cy="5307120"/>
              <a:chOff x="0" y="1371600"/>
              <a:chExt cx="9144000" cy="53071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0" y="1371600"/>
                <a:ext cx="9144000" cy="5307120"/>
                <a:chOff x="0" y="1371600"/>
                <a:chExt cx="9144000" cy="5307120"/>
              </a:xfrm>
            </p:grpSpPr>
            <p:pic>
              <p:nvPicPr>
                <p:cNvPr id="50" name="elco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14400" y="1905120"/>
                  <a:ext cx="7467480" cy="477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" name=""/>
                <p:cNvSpPr/>
                <p:nvPr/>
              </p:nvSpPr>
              <p:spPr>
                <a:xfrm>
                  <a:off x="0" y="1371600"/>
                  <a:ext cx="9144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Il rotor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809880" y="1447920"/>
                  <a:ext cx="1447920" cy="38088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3962520" y="1828800"/>
                <a:ext cx="0" cy="1066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elco01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5715000" cy="3652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09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 il rotore gira in un senso, l’elicottero che gli sta appeso, e non è vincolato a niente, tenderà a ruotare dalla parte op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52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°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1752480"/>
            <a:ext cx="9144000" cy="2590920"/>
            <a:chOff x="0" y="1752480"/>
            <a:chExt cx="9144000" cy="2590920"/>
          </a:xfrm>
        </p:grpSpPr>
        <p:sp>
          <p:nvSpPr>
            <p:cNvPr id="58" name=""/>
            <p:cNvSpPr/>
            <p:nvPr/>
          </p:nvSpPr>
          <p:spPr>
            <a:xfrm>
              <a:off x="0" y="220968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Si mette un piccolo rotore in coda per sviluppare una forza che gli impedisca di ruotare su se stes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52280" y="1752480"/>
              <a:ext cx="8839440" cy="2590920"/>
              <a:chOff x="152280" y="1752480"/>
              <a:chExt cx="8839440" cy="2590920"/>
            </a:xfrm>
          </p:grpSpPr>
          <p:sp>
            <p:nvSpPr>
              <p:cNvPr id="60" name=""/>
              <p:cNvSpPr/>
              <p:nvPr/>
            </p:nvSpPr>
            <p:spPr>
              <a:xfrm>
                <a:off x="152280" y="1752480"/>
                <a:ext cx="510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RISOLUZIONE 1° PROBLEM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2280" y="2286000"/>
                <a:ext cx="8839440" cy="6858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153280" y="2971800"/>
                <a:ext cx="0" cy="1371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7086240" y="4343400"/>
                <a:ext cx="1066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4572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°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219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e si fa a farlo spostare verso l’avanti e a farlo vira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2286000"/>
            <a:ext cx="8229600" cy="3716280"/>
            <a:chOff x="457200" y="2286000"/>
            <a:chExt cx="8229600" cy="3716280"/>
          </a:xfrm>
        </p:grpSpPr>
        <p:pic>
          <p:nvPicPr>
            <p:cNvPr id="67" name="elco02" descr=""/>
            <p:cNvPicPr/>
            <p:nvPr/>
          </p:nvPicPr>
          <p:blipFill>
            <a:blip r:embed="rId1"/>
            <a:stretch/>
          </p:blipFill>
          <p:spPr>
            <a:xfrm>
              <a:off x="838080" y="3809880"/>
              <a:ext cx="7543800" cy="2192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"/>
            <p:cNvGrpSpPr/>
            <p:nvPr/>
          </p:nvGrpSpPr>
          <p:grpSpPr>
            <a:xfrm>
              <a:off x="457200" y="2286000"/>
              <a:ext cx="8229600" cy="1221840"/>
              <a:chOff x="457200" y="2286000"/>
              <a:chExt cx="8229600" cy="1221840"/>
            </a:xfrm>
          </p:grpSpPr>
          <p:sp>
            <p:nvSpPr>
              <p:cNvPr id="69" name=""/>
              <p:cNvSpPr/>
              <p:nvPr/>
            </p:nvSpPr>
            <p:spPr>
              <a:xfrm>
                <a:off x="457200" y="2286000"/>
                <a:ext cx="480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RISOLUZIONE 2° PROBLEM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33520" y="3048120"/>
                <a:ext cx="815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Si fa inclinare tutto il piatto del rotore in avanti o di lato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 che mo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elco01" descr=""/>
          <p:cNvPicPr/>
          <p:nvPr/>
        </p:nvPicPr>
        <p:blipFill>
          <a:blip r:embed="rId1"/>
          <a:stretch/>
        </p:blipFill>
        <p:spPr>
          <a:xfrm>
            <a:off x="1143000" y="2278080"/>
            <a:ext cx="6781680" cy="433368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380880" y="1143000"/>
            <a:ext cx="8458200" cy="3429000"/>
            <a:chOff x="380880" y="1143000"/>
            <a:chExt cx="8458200" cy="3429000"/>
          </a:xfrm>
        </p:grpSpPr>
        <p:grpSp>
          <p:nvGrpSpPr>
            <p:cNvPr id="74" name=""/>
            <p:cNvGrpSpPr/>
            <p:nvPr/>
          </p:nvGrpSpPr>
          <p:grpSpPr>
            <a:xfrm>
              <a:off x="380880" y="1143000"/>
              <a:ext cx="8458200" cy="3429000"/>
              <a:chOff x="380880" y="1143000"/>
              <a:chExt cx="8458200" cy="3429000"/>
            </a:xfrm>
          </p:grpSpPr>
          <p:sp>
            <p:nvSpPr>
              <p:cNvPr id="75" name=""/>
              <p:cNvSpPr/>
              <p:nvPr/>
            </p:nvSpPr>
            <p:spPr>
              <a:xfrm>
                <a:off x="4724280" y="1143000"/>
                <a:ext cx="4114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Si aumenta l’incidenza della pala quando passa dietr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0880" y="1143000"/>
                <a:ext cx="4191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Si diminuisce l’incidenza della pala quando passa davant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80880" y="1143000"/>
                <a:ext cx="4114800" cy="9144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8800" y="205740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800600" y="1143000"/>
              <a:ext cx="3962520" cy="91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91320" y="2057400"/>
              <a:ext cx="0" cy="152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8380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erò la velocità delle pale del rotore si somma alla velocità dell’elicot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09480" y="838080"/>
            <a:ext cx="7848720" cy="6019920"/>
            <a:chOff x="609480" y="838080"/>
            <a:chExt cx="7848720" cy="6019920"/>
          </a:xfrm>
        </p:grpSpPr>
        <p:pic>
          <p:nvPicPr>
            <p:cNvPr id="83" name="IMGP0008" descr=""/>
            <p:cNvPicPr/>
            <p:nvPr/>
          </p:nvPicPr>
          <p:blipFill>
            <a:blip r:embed="rId1"/>
            <a:stretch/>
          </p:blipFill>
          <p:spPr>
            <a:xfrm>
              <a:off x="685800" y="2036880"/>
              <a:ext cx="7543800" cy="4821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" name=""/>
            <p:cNvGrpSpPr/>
            <p:nvPr/>
          </p:nvGrpSpPr>
          <p:grpSpPr>
            <a:xfrm>
              <a:off x="609480" y="838080"/>
              <a:ext cx="7848720" cy="5867640"/>
              <a:chOff x="609480" y="838080"/>
              <a:chExt cx="7848720" cy="5867640"/>
            </a:xfrm>
          </p:grpSpPr>
          <p:sp>
            <p:nvSpPr>
              <p:cNvPr id="85" name=""/>
              <p:cNvSpPr/>
              <p:nvPr/>
            </p:nvSpPr>
            <p:spPr>
              <a:xfrm>
                <a:off x="609480" y="2133720"/>
                <a:ext cx="2210040" cy="144756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34120" y="5486400"/>
                <a:ext cx="2666880" cy="1219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85800" y="838080"/>
                <a:ext cx="7772400" cy="7621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572000" y="1600200"/>
                <a:ext cx="0" cy="4419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72000" y="60199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352680" y="1600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2895480" y="2895480"/>
                <a:ext cx="457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533520" y="228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°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GP0008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6583320" cy="4206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   CONSEGU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0666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 pala che avanza ha maggiore velocità e quindi maggiore port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10666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 pala che retrocede ha minore velocità e quindi minore port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066680"/>
            <a:ext cx="365760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228600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434340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2286000"/>
            <a:ext cx="0" cy="3352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4572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ISOLUZIONE 3°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elco01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553080" cy="418788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152280" y="1143000"/>
            <a:ext cx="8921520" cy="4038480"/>
            <a:chOff x="152280" y="1143000"/>
            <a:chExt cx="8921520" cy="4038480"/>
          </a:xfrm>
        </p:grpSpPr>
        <p:grpSp>
          <p:nvGrpSpPr>
            <p:cNvPr id="105" name=""/>
            <p:cNvGrpSpPr/>
            <p:nvPr/>
          </p:nvGrpSpPr>
          <p:grpSpPr>
            <a:xfrm>
              <a:off x="152280" y="1143000"/>
              <a:ext cx="4191120" cy="2057400"/>
              <a:chOff x="152280" y="1143000"/>
              <a:chExt cx="4191120" cy="2057400"/>
            </a:xfrm>
          </p:grpSpPr>
          <p:sp>
            <p:nvSpPr>
              <p:cNvPr id="106" name=""/>
              <p:cNvSpPr/>
              <p:nvPr/>
            </p:nvSpPr>
            <p:spPr>
              <a:xfrm>
                <a:off x="3200400" y="228600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152280" y="1143000"/>
                <a:ext cx="4191120" cy="1191240"/>
                <a:chOff x="152280" y="1143000"/>
                <a:chExt cx="4191120" cy="11912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58760" y="1143000"/>
                  <a:ext cx="418464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Si diminuisce l’incidenza della pala che avanza in modo da diminuirne la portanz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52280" y="1219320"/>
                  <a:ext cx="4114800" cy="106668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" name=""/>
            <p:cNvGrpSpPr/>
            <p:nvPr/>
          </p:nvGrpSpPr>
          <p:grpSpPr>
            <a:xfrm>
              <a:off x="4807080" y="1143000"/>
              <a:ext cx="4266720" cy="4038480"/>
              <a:chOff x="4807080" y="1143000"/>
              <a:chExt cx="4266720" cy="4038480"/>
            </a:xfrm>
          </p:grpSpPr>
          <p:sp>
            <p:nvSpPr>
              <p:cNvPr id="111" name=""/>
              <p:cNvSpPr/>
              <p:nvPr/>
            </p:nvSpPr>
            <p:spPr>
              <a:xfrm>
                <a:off x="4807080" y="1143000"/>
                <a:ext cx="42667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Si aumenta l’incidenza della pala che retrocede  in modo da aumentarne la portanz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07080" y="1219320"/>
                <a:ext cx="4266720" cy="1066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12320" y="2286000"/>
                <a:ext cx="1440" cy="289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57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°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0666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 per caso il motore si ferma bisogna che il rotore principale e quello di coda continuino a girare, altrimenti l’elicottero si trasforma in …..un ferro da st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04920" y="2819520"/>
            <a:ext cx="8534160" cy="3725640"/>
            <a:chOff x="304920" y="2819520"/>
            <a:chExt cx="8534160" cy="3725640"/>
          </a:xfrm>
        </p:grpSpPr>
        <p:pic>
          <p:nvPicPr>
            <p:cNvPr id="117" name="trsm01" descr=""/>
            <p:cNvPicPr/>
            <p:nvPr/>
          </p:nvPicPr>
          <p:blipFill>
            <a:blip r:embed="rId1"/>
            <a:stretch/>
          </p:blipFill>
          <p:spPr>
            <a:xfrm>
              <a:off x="4724280" y="3429000"/>
              <a:ext cx="4114800" cy="311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"/>
            <p:cNvGrpSpPr/>
            <p:nvPr/>
          </p:nvGrpSpPr>
          <p:grpSpPr>
            <a:xfrm>
              <a:off x="304920" y="2819520"/>
              <a:ext cx="7010280" cy="2913120"/>
              <a:chOff x="304920" y="2819520"/>
              <a:chExt cx="7010280" cy="2913120"/>
            </a:xfrm>
          </p:grpSpPr>
          <p:sp>
            <p:nvSpPr>
              <p:cNvPr id="119" name=""/>
              <p:cNvSpPr/>
              <p:nvPr/>
            </p:nvSpPr>
            <p:spPr>
              <a:xfrm>
                <a:off x="304920" y="2819520"/>
                <a:ext cx="525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RISOLUZIONE 4° PROBLEM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80880" y="3809880"/>
                <a:ext cx="388620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)  Si collegano i due rotori con una trasmissione in modo che se gira uno sia obbligato a girare anche l’altr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80880" y="3733920"/>
                <a:ext cx="3657600" cy="19810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38480" y="4038480"/>
                <a:ext cx="3276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315200" y="4038480"/>
                <a:ext cx="0" cy="83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8:23:15Z</dcterms:created>
  <dc:creator>Vallauri</dc:creator>
  <dc:description/>
  <dc:language>en-US</dc:language>
  <cp:lastModifiedBy>Vallauri</cp:lastModifiedBy>
  <dcterms:modified xsi:type="dcterms:W3CDTF">2004-10-07T17:46:14Z</dcterms:modified>
  <cp:revision>17</cp:revision>
  <dc:subject/>
  <dc:title>   </dc:title>
</cp:coreProperties>
</file>